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73152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409400" y="720360"/>
            <a:ext cx="4497480" cy="35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D4ED9-3373-45AD-90E9-73795155A9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D31C7-8A67-4DA9-9ECC-91EC4452F7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963FE-3B94-4956-B3C5-B0ECF644B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C5B8F-D577-4324-9C45-A50E5A2F2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44F39-18FD-472F-A881-F5751972A9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rogram is  available through the Opportunities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41F734-8076-4FCA-B93E-FB29BCB2C3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lvl="1" marL="68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atures of program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lass business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mentoring and support from a business counsel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repreneurial support during the business plan writing 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Number of week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or program varies by 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716040" y="4564080"/>
            <a:ext cx="585144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AF6B4-975A-49D5-A074-9A61A613CA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basic client eligibility only, a vpi Career Specialist can discuss eligibility requirements in greater deta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E91F2A-78CA-461F-9F77-50112FF9AB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ient would not be eligible for the OSEB program if participated in any Self Employment training program (i.e. provincial or other) within the last 24 month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455C44-2353-4688-8A4D-E16FB5395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work experience to unemployed job seekers within projects that benefit the community or local econom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end of their participation, participants in the program will have recent work experience and additional skills to add to their résumés, increasing their chances of successfully finding long-term em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JCP ends if individual secures full time employment with existing JCP sponsor or with an external emplo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F7EA7F-555E-4196-A4B3-C700D2BAD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al for a newcomer to Canada that needs their first Canadian experience in the workplace or Canadians that want to change or start a new job in a career they have no previous job experi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6C6B8-C0D0-4E38-9B37-605A31D33A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5CAB5-939B-4E59-B520-89D3C08A75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ampling of work experience fields.  This program offers 8-12 weeks of unpaid work exper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9BB85-32DF-4FAA-9345-CA9DD0109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FA637-E20A-4959-B236-D93DA2606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amples of trad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Bricklayer, Civil Engineering Technician, Roofer, Painter, Crane Operator, Scaffo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ustrial/Manufactur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achinists, Tool and Die Makers, Instrument Makers, Mold Makers and Pattern Makers build precise, complex tools and parts for the aerospace, medical, defense, automotive, construction and consumer product indus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tive Pow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Motive Power Technician – Trade Related to Automotive, Heavy Duty Mechanic, Truck and Coach Technici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Hairstylists/Barbers/Cosmetologists and Cooks/Chefs), Public Safety Officers (firefighters and correctional officers), and Funeral Director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out more about these trades go to </a:t>
            </a:r>
            <a:r>
              <a:rPr b="1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www.tcu.gov.on.ca/eng/employmentontario/training/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8BC32-7176-4742-A561-CC48CB5065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41795-2E60-4CCA-8326-5B0DC81FC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C77041-34FF-4E3A-B3A8-3A8246F8D8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DE8AE4-44B4-4613-94C2-075CC8754E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231F8-BB3F-408D-8D30-A06646BA8D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4A062-BD96-4A46-BE2D-904017A854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DF8E8-C2F7-42D2-AF5C-764596060C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visual of vpi Employment Services, highlighting the various client pathways and services leading to employ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6ADAA-50E9-4AC7-9E60-6D1154A9B3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F9A8BB-2346-4D43-806D-AD998A4287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AE176B-6ACA-489F-8C5E-99A633A650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se sessions are intended to assist individuals with exploring career options as well as maximizing job search and job retention succe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eedback sessions are available for:  resume and interview 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scriptions and calendar available at reception / Steps To Success sessio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F3B37-0922-4F03-9925-579BC190E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409760" y="720720"/>
            <a:ext cx="4497480" cy="359892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BC4-D248-4B0D-B8FE-1689D452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64A-33DD-4DC8-B404-14284302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F70C-0AC5-4701-8605-202D2B8DA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6CFA-B97F-4AAC-BABF-2A60C0923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9BE6-8CE1-4330-82E5-5CC19BC4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F6E9-F608-4A6E-90DF-B4486C72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E82B-CD7E-46D4-A05D-DE7F7951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5D31-A267-48E5-8684-E6AECD8C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83994-8FF0-4909-AE50-9B5F8DAA2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A05D-61DE-4735-B619-BDC0D334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A2F1-32F2-484C-91BF-44C8C78F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5D57-D474-4E76-BAD9-860CCF92E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00E9-EE85-4D34-8F2C-AE016AF36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1C75-190B-4AF8-948A-7B8FAE94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4783-75F2-4735-B7DB-15529823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33B1-E020-4CBF-9573-CA99D15B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7064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228200"/>
            <a:ext cx="264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70B6-6F5E-4D7B-AAB3-1DCA09BC3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DEBE-788E-482C-BBC1-0B6059FC4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2342-9D7D-4574-8B70-7F185E49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07B0-F9E4-478E-9DC7-CB0B1A6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9376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C1AC-8737-4FFE-886D-ED218EF1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9EE-F4F0-470C-AB20-287EBA0C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282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B0EB-D030-45F4-9330-2F767D22B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06400"/>
            <a:ext cx="40158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8200"/>
            <a:ext cx="8229600" cy="23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1B25-A553-479F-91E3-24A26B63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BCB5-AEF7-44E1-9117-000284149E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NEW LOGO 2005"/>
          <p:cNvPicPr/>
          <p:nvPr/>
        </p:nvPicPr>
        <p:blipFill>
          <a:blip r:embed="rId3">
            <a:lum bright="48000"/>
          </a:blip>
          <a:srcRect l="2499" t="0" r="0" b="17502"/>
          <a:stretch/>
        </p:blipFill>
        <p:spPr>
          <a:xfrm>
            <a:off x="1600200" y="2031840"/>
            <a:ext cx="5943600" cy="2683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376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06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60720"/>
            <a:ext cx="28958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660720"/>
            <a:ext cx="213372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10974-533B-475E-A400-49B4E789F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3"/>
          <p:cNvSpPr/>
          <p:nvPr/>
        </p:nvSpPr>
        <p:spPr>
          <a:xfrm>
            <a:off x="2133720" y="1523880"/>
            <a:ext cx="4724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ELCOME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838080" y="2819520"/>
            <a:ext cx="69343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To A Presentation on </a:t>
            </a:r>
            <a:r>
              <a:rPr b="1" i="1" lang="en-US" sz="4800" spc="-1" strike="noStrike">
                <a:solidFill>
                  <a:srgbClr val="003399"/>
                </a:solidFill>
                <a:latin typeface="Eras Demi ITC"/>
              </a:rPr>
              <a:t>vpi</a:t>
            </a:r>
            <a:r>
              <a:rPr b="1" i="1" lang="en-US" sz="4800" spc="-1" strike="noStrike">
                <a:solidFill>
                  <a:srgbClr val="000000"/>
                </a:solidFill>
                <a:latin typeface="Eras Demi ITC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Employment Servi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employed /Underemployed persons not in full-time trai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ble to secure work independently due to multiple employment barr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ally entitled to work in Can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Career – What is I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objective of Second Career is to support laid off, unemployed individuals who require skills training to assist them to find employment in occupations with demonstr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ur market prospec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n Ontario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Red-Tag"/>
          <p:cNvPicPr/>
          <p:nvPr/>
        </p:nvPicPr>
        <p:blipFill>
          <a:blip r:embed="rId1"/>
          <a:stretch/>
        </p:blipFill>
        <p:spPr>
          <a:xfrm>
            <a:off x="5562720" y="2819520"/>
            <a:ext cx="2762280" cy="135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924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kills Enhancement Programmes for Persons with Disa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 assist with the application process to obtain funding for upgrading from  Employment Ontario &amp; The Opportunities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 Crite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Un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Legally entitled to work in Can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Currentl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n EI / reach-back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Identify as having a dis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8001000" cy="87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tario Self-Employment Benefit – What is 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entrepreneurial skills development support to approved participants to help them develop and implement their business plan and become self employ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articipants to concentrate on building a sustainable business by providing them with financial assistance while they receive business advice and suppor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120" y="1066320"/>
            <a:ext cx="80773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gibility for the Ontario Self Employment Benefit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abc4"/>
                </a:solidFill>
                <a:latin typeface="Arial"/>
              </a:rPr>
              <a:t>Basic Client Eligi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active claim with Employment Insurance (E.I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n active claim that ended in the past 36 months (3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 Maternity or Parental claim that began within the past 60 months (5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iness Eligi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have a viable business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s the business support and trai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posses the skills and relevant qualifications (if any) necessary to carry out their business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ent must not have previously owned and operated a successful busin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07732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Creation Partnershi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ides an opportunity for individuals who want to develop their skills, gain work experience, build their résumé, and create networking connection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an last up to 52 week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rtnership ends if employment is secur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ust be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ligible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for EI Benefits or qualify for Reachback statu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792504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ed after real businesses to provide unemployed individuals with “hands on” experience in their field in which they have experience and/or training while looking for employ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1066320"/>
            <a:ext cx="75438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8229600" cy="41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g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employed or under em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 years of age or o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n active claim with Employment Insurance (E.I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had an active claim that ended in the past 36 months (3 year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75438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 Fi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822960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ticipants work in real departments of a simulated business &amp; gain valuable work experience in areas inclu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2"/>
          <p:cNvSpPr/>
          <p:nvPr/>
        </p:nvSpPr>
        <p:spPr>
          <a:xfrm>
            <a:off x="838080" y="3429000"/>
            <a:ext cx="39625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rativ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coun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uman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3"/>
          <p:cNvSpPr/>
          <p:nvPr/>
        </p:nvSpPr>
        <p:spPr>
          <a:xfrm>
            <a:off x="4419720" y="3429000"/>
            <a:ext cx="449568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rketing/S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cha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 A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Your Presen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pril Grainger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eer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aul Burns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reer Specia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an Apprenticeshi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403884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enticeship is the entry point and the path to a rewarding career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killed tra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olves hands-on training learned in the workplac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so involves classroom based instruction at a post-secondary in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apprentice"/>
          <p:cNvPicPr/>
          <p:nvPr/>
        </p:nvPicPr>
        <p:blipFill>
          <a:blip r:embed="rId1"/>
          <a:stretch/>
        </p:blipFill>
        <p:spPr>
          <a:xfrm>
            <a:off x="4981680" y="2128680"/>
            <a:ext cx="3371760" cy="39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914040"/>
            <a:ext cx="807732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822960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tario has apprenticeship programs for more tha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 trad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occupations i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sector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strial/manufactur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e pow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-Apprenticeship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ining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se programs will support potential entrants to the apprenticeship system who require job readiness skills and trade readiness experience to gain employment as Apprentic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ployment Resource Cent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ree faxing, photocopying, local phone calls and computers with high speed intern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mployment resources are available to assist you with your job sear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Resource Specialist is always available for assistance in the Cent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 algn="ctr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deal Refer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ideal candidate for </a:t>
            </a:r>
            <a:r>
              <a:rPr b="0" i="1" lang="en-US" sz="26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Richmond Hill employment services is someone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ho is unemployed (under 20 hours/wk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a FT stu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on EI Parental or Sick benefi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t registered at another Employment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ES services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00 SINS require a work perm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ork Permit must have no condi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r MTCU Program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nvention Refugees require a letter of deci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91404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king a Refer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referrals to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Richmond Hill go through our 1-888-882-9550 Call Centre and then are transferred directly to our office in Richmond Hill where they are booked directly into our Steps To Success information ses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dividuals can call on their own behalf,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organization can make the call fo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aller should say where they heard about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39152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 are here to help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ask that you call us at anytime if you have questions or require additional information at 905-882-956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1" descr="MP900448494[1]"/>
          <p:cNvPicPr/>
          <p:nvPr/>
        </p:nvPicPr>
        <p:blipFill>
          <a:blip r:embed="rId1"/>
          <a:stretch/>
        </p:blipFill>
        <p:spPr>
          <a:xfrm>
            <a:off x="2286000" y="4191120"/>
            <a:ext cx="3657600" cy="239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560" y="2437920"/>
            <a:ext cx="79246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y Last 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160" y="2437920"/>
            <a:ext cx="78483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 You For Asking Us To Present Our Services To You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8001000" cy="82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vpi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606e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s provided employment services to eligible Canadian residents since 19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606e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Employment Services are funded by the Ministry of Training Colleges and Universities (MTCU) / Employment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ost to cl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job-map-diagram"/>
          <p:cNvPicPr/>
          <p:nvPr/>
        </p:nvPicPr>
        <p:blipFill>
          <a:blip r:embed="rId1"/>
          <a:stretch/>
        </p:blipFill>
        <p:spPr>
          <a:xfrm>
            <a:off x="-228600" y="-54000"/>
            <a:ext cx="9372600" cy="736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7315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igibility Crite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Unique Programs &amp;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Ideal Candi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r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1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Unique Service Objectiv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Assist individuals who are looking for work by assessing their employment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Help them connect with appropriate </a:t>
            </a:r>
            <a:r>
              <a:rPr b="1" i="1" lang="en-CA" sz="32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CA" sz="3200" spc="-1" strike="noStrike">
                <a:solidFill>
                  <a:srgbClr val="0606e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services &amp; programs, and Ministry-sponsored pro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"/>
              </a:rPr>
              <a:t>Provide ongoing support until sustainable employment is sec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143000" y="1706400"/>
            <a:ext cx="723888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though not really a service,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an assist referrals with first-language support to get them off to a great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though we prefer our referrals to be strong in their English skills (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vel 5 CLB minimum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does have Mandarin &amp; Cantonese speaking staff in the Richmond Hill off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i="1" lang="en-US" sz="2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 also have a diverse base of other languages to draw from if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761760" y="609120"/>
            <a:ext cx="784836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Unique Languag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153280" cy="10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800" spc="-1" strike="noStrike">
                <a:solidFill>
                  <a:srgbClr val="0606e0"/>
                </a:solidFill>
                <a:latin typeface="Arial"/>
              </a:rPr>
              <a:t>vpi</a:t>
            </a: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ique Job Readiness Worksh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706400"/>
            <a:ext cx="3962520" cy="44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dden Job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b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ume Feedbac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place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geting Bas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ing Winning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earching The Labou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52880" y="1787040"/>
            <a:ext cx="3657600" cy="45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repa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view Pract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ve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 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derstanding the Canadian Workpl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838080"/>
            <a:ext cx="7772400" cy="81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 Matching, Placement &amp; Incen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20570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to match individual’s skills and interests with employment opportunities and employers’ needs in the local labour marke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ments can include: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apprenticeship training; work trials (for determining employability) and work experience opportunit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ditional assistance is available through placement monitoring, support and follow up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age incentives may be available to employer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8T14:21:47Z</dcterms:created>
  <dc:creator>paul burns</dc:creator>
  <dc:description/>
  <dc:language>en-US</dc:language>
  <cp:lastModifiedBy>aholmes</cp:lastModifiedBy>
  <dcterms:modified xsi:type="dcterms:W3CDTF">2011-07-08T18:56:11Z</dcterms:modified>
  <cp:revision>31</cp:revision>
  <dc:subject/>
  <dc:title>Slide 1</dc:title>
</cp:coreProperties>
</file>